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gif" ContentType="image/gif"/>
  <Override PartName="/ppt/media/image2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png" ContentType="image/png"/>
  <Override PartName="/ppt/media/image5.jpeg" ContentType="image/jpeg"/>
  <Override PartName="/ppt/media/chimes.wav" ContentType="audio/x-wav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camera.wav" ContentType="audio/x-wav"/>
  <Override PartName="/ppt/media/image13.jpeg" ContentType="image/jpeg"/>
  <Override PartName="/ppt/media/image14.jpeg" ContentType="image/jpeg"/>
  <Override PartName="/ppt/media/image17.jpeg" ContentType="image/jpeg"/>
  <Override PartName="/ppt/media/image16.png" ContentType="image/png"/>
  <Override PartName="/ppt/media/image23.gif" ContentType="image/gif"/>
  <Override PartName="/ppt/media/image15.png" ContentType="image/png"/>
  <Override PartName="/ppt/media/image22.gif" ContentType="image/gif"/>
  <Override PartName="/ppt/media/image18.jpeg" ContentType="image/jpeg"/>
  <Override PartName="/ppt/media/image6.jpeg" ContentType="image/jpeg"/>
  <Override PartName="/ppt/media/image2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12193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1C9-E9BD-4668-B565-D5D972CE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7A9-F61E-4936-9C56-E2A84E01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361-78B7-471C-8D33-A4BBF4C6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3FF-45A4-48B1-9D6B-8DAA8F0B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8687-8056-49EC-8FCE-8024FEE8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30D2-514D-4851-B8A0-73B6C561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7931-6F8D-4FC8-9C7E-D6C79F99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33D4-6B6D-46F6-A9AE-B15AC4A0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00CC-2C11-47F9-905B-BA1E105D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3FEC-DD05-4B1F-B931-51BF1360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FBC8-93FD-4B46-ACBF-0709B74C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F7D-F85A-4726-9FD4-C7C8C024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0258-B547-4658-82FC-F078B9BD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7202-9527-4C55-87F2-3D71D071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F3A1-A42D-4583-B02B-7412BD5F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8113-FD87-42D6-B1BF-EBADF428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9B66-2057-4238-BB1D-E4400524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91A3-DC8B-4EEC-9807-77B4CAB8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FF8E-E30E-47FC-9CDF-83730056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4DEB-BC0E-4AA0-B6A1-84BBE87E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B9FB2-C85E-42E9-9CB6-6E520976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26C7-01F3-4A02-BB46-765F2CD8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A34-1419-431C-99C0-FDCF1361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239B-6CEB-48DB-9975-CA59CE95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7F1F-79E9-4880-8951-5BAA6C94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EC8F-361B-408A-9184-EDF02FA6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0BF1-CA0D-4A67-8C27-37C93E7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9DE6D-FF03-43B5-B2D3-1C87755F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55594-8E1B-4165-A633-37929880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0549-95DF-4CE3-9318-C8D9C2A8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D0B69-B778-4A54-AECB-6E32049A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584B-514A-48B8-87C3-7F3A3E3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AAF3-76C4-4590-BC0B-17B4B5D5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FEB0-8280-4D91-888C-C06C8DAD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1D17-3599-4AAF-944F-CC45F206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F333-3121-4BFC-85B2-678F1179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7D9F-6708-4A0B-B5E7-3446FBF5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7122B-7F0B-4D26-8DB0-D1DDC02A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7705-4CA7-4460-9FC1-15DBCD5F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D445-62D5-4E1C-827D-B0A59E32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1183-EE89-46E6-9FDC-D315CD92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4D5CE-3BB3-436C-B9CB-136A48CA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63095-1B1B-4654-BBD5-C305B733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948-01E6-4232-8D0F-EA857B86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764-2457-4EA4-8165-ECC1CEAB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5C7-C6E2-42A8-8F48-114F86B4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0E5-978F-4B82-A655-A6E2B8A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198-5C45-4AFB-978E-AF6AF8B1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1400" y="68544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980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1760" y="601956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01956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9000" y="6019560"/>
            <a:ext cx="305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5647-F1D3-4F8F-98E1-443DC51824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17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9000" y="6244920"/>
            <a:ext cx="305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946F-0CE8-4DC0-9546-6FF87C16A7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68544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06080" y="1980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01760" y="607644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0764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9000" y="6076440"/>
            <a:ext cx="305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8DC0-66A1-46FD-B843-2C658261F8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017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9000" y="6244920"/>
            <a:ext cx="305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824B-46F6-4D1C-8B72-4501BF411CAC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6145" descr="292013229401"/>
          <p:cNvPicPr/>
          <p:nvPr/>
        </p:nvPicPr>
        <p:blipFill>
          <a:blip r:embed="rId1"/>
          <a:stretch/>
        </p:blipFill>
        <p:spPr>
          <a:xfrm>
            <a:off x="-47520" y="-3240"/>
            <a:ext cx="12272760" cy="686592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6146"/>
          <p:cNvSpPr/>
          <p:nvPr/>
        </p:nvSpPr>
        <p:spPr>
          <a:xfrm>
            <a:off x="2655720" y="1444680"/>
            <a:ext cx="79488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候课要求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保持安静！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坐姿端正 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准备好学习用具                                                                              （课本，练习本，红黑笔）            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78849"/>
          <p:cNvSpPr/>
          <p:nvPr/>
        </p:nvSpPr>
        <p:spPr>
          <a:xfrm>
            <a:off x="3886200" y="480960"/>
            <a:ext cx="56037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游 山 西 村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七言律诗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陆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文本框 78850"/>
          <p:cNvSpPr/>
          <p:nvPr/>
        </p:nvSpPr>
        <p:spPr>
          <a:xfrm>
            <a:off x="1271520" y="1941480"/>
            <a:ext cx="10412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莫笑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农家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腊酒浑，丰年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留客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足鸡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山重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水复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疑无路，柳暗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花明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又一村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箫鼓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追随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春社近，衣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简朴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古风存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从今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若许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闲乘月，拄杖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无时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夜叩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7" name="游山西村.mp3" descr=""/>
          <p:cNvPicPr/>
          <p:nvPr/>
        </p:nvPicPr>
        <p:blipFill>
          <a:blip r:embed="rId1"/>
          <a:stretch/>
        </p:blipFill>
        <p:spPr>
          <a:xfrm>
            <a:off x="10455120" y="541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1"/>
          <p:cNvSpPr/>
          <p:nvPr/>
        </p:nvSpPr>
        <p:spPr>
          <a:xfrm>
            <a:off x="1623960" y="162000"/>
            <a:ext cx="23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朗读诗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8580600" y="934920"/>
            <a:ext cx="2087280" cy="614520"/>
          </a:xfrm>
          <a:prstGeom prst="wedgeEllipseCallout">
            <a:avLst>
              <a:gd name="adj1" fmla="val 8615"/>
              <a:gd name="adj2" fmla="val 101162"/>
            </a:avLst>
          </a:prstGeom>
          <a:solidFill>
            <a:srgbClr val="ffffcc"/>
          </a:solidFill>
          <a:ln w="381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tú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3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47016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31480" y="60480"/>
            <a:ext cx="11820600" cy="48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译文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不要笑话农家的腊酒浑浊，丰收之年待客有丰足的鸡肉、猪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山重重叠叠，溪流迂回曲折，似已无路可走，忽见柳树茂密，山花鲜艳，又 一村庄出现在眼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将近社日，村里忙着迎神赛会，一路上迎神的箫鼓声随处可闻，人们穿着简朴，淳厚的古风犹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从今以后，若是您（农家）同意我趁着月明来闲游，我将会随时拄着拐杖，踏着夜色，前来叩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2840" y="1740960"/>
            <a:ext cx="1138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【自学指导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】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	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      请同学们默读诗歌，理解诗歌主题，体会诗歌意境美，赏析诗中名句思考并完成下列各题，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8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分钟后展示自学成果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06080" y="1980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内容占位符 100353" descr="clip_image0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4680" y="0"/>
            <a:ext cx="1217124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5080" y="428400"/>
            <a:ext cx="1104264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文本框 43015"/>
          <p:cNvSpPr/>
          <p:nvPr/>
        </p:nvSpPr>
        <p:spPr>
          <a:xfrm>
            <a:off x="861840" y="306360"/>
            <a:ext cx="92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c5900"/>
                </a:solidFill>
                <a:latin typeface="Arial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楷体_GB2312"/>
              </a:rPr>
              <a:t>本诗在行文上有什么特点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文本框 1"/>
          <p:cNvSpPr/>
          <p:nvPr/>
        </p:nvSpPr>
        <p:spPr>
          <a:xfrm>
            <a:off x="235080" y="1317600"/>
            <a:ext cx="1141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游山西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全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紧扣“游”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时间推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展开记叙，层次清晰，语言生动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在一个丰收的年景，诗人受到邀请，来到农家。走在通往山西村的小路上，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山重水复疑无路，柳暗花明又一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，路疑无而实有，景似绝而复出，终于来到山西村。这里山环水绕，柳暗花明，一派花团锦簇的景象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这两句诗蕴涵着生活的哲理，比喻困境中也往往蕴涵着希望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50520" y="837720"/>
            <a:ext cx="1138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首联中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足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字用的好，好在哪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06080" y="1980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   “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足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不仅表现了菜肴丰足，而且表现了农家款待客人倾其所有的盛情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600" y="71568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对颔联应怎样理解？我们可从中受到什么启发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06080" y="1980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颔联描写的是诗人置身山水环绕的路上，信步而行，道路难辨，疑若无路，忽又开朗的情境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哲理：只要人们正视现实 ，面对重重艰难险阻，不退缩，不畏惧，勇于开拓，发奋前进，那么，前方将是充满光明与希望的崭新境界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9664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572"/>
                </a:solidFill>
                <a:latin typeface="Arial"/>
              </a:rPr>
              <a:t>4.</a:t>
            </a: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尾联表达了作者怎样的思想感情？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720" y="204120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6600" spc="-1" strike="noStrike">
                <a:solidFill>
                  <a:srgbClr val="0033cc"/>
                </a:solidFill>
                <a:latin typeface="Arial"/>
              </a:rPr>
              <a:t>对游览之地恋恋不舍，对农村生活十分热爱。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27360" y="19656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572"/>
                </a:solidFill>
                <a:latin typeface="Arial"/>
              </a:rPr>
              <a:t>小结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9480" y="1485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本诗以一个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游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字贯穿全诗，生动描绘了农村优美景色的和淳厚的民风，刻画了农民纯朴好客的品性，表现了诗人对农村生活的热爱之情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60040" y="37908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</a:rPr>
              <a:t>你还知道哪些关于田园风光的诗句？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7040" y="1485720"/>
            <a:ext cx="11677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千里莺啼绿映红，水村山郭酒旗风。 —— 杜牧《江南春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借问酒家何处有？牧童遥指杏花村。 —— 杜牧《清明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绿树村边合，青山郭外斜。 —— 孟浩然《过故人庄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童孙未解供耕织，也傍桑阴学种瓜。 —— 范成大《夏日田园杂兴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其七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少无适俗韵，性本爱丘山。 —— 陶渊明《归园田居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其一》桃红复含宿雨，柳绿更带朝烟。 —— 王维《田园乐七首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其六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074240" y="907920"/>
            <a:ext cx="92869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4200" spc="-1" strike="noStrike">
                <a:solidFill>
                  <a:srgbClr val="ff0000"/>
                </a:solidFill>
                <a:latin typeface="Arial"/>
              </a:rPr>
              <a:t>评价最佳激情小组</a:t>
            </a:r>
            <a:endParaRPr b="0" lang="en-US" sz="14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06503" descr="图片1"/>
          <p:cNvPicPr/>
          <p:nvPr/>
        </p:nvPicPr>
        <p:blipFill>
          <a:blip r:embed="rId1"/>
          <a:stretch/>
        </p:blipFill>
        <p:spPr>
          <a:xfrm>
            <a:off x="-81000" y="30240"/>
            <a:ext cx="1241604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65440" y="4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29920" y="1068120"/>
            <a:ext cx="111315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宋体"/>
              </a:rPr>
              <a:t>要求</a:t>
            </a:r>
            <a:r>
              <a:rPr b="0" lang="zh-CN" sz="4800" spc="-1" strike="noStrike">
                <a:solidFill>
                  <a:srgbClr val="0033cc"/>
                </a:solidFill>
                <a:latin typeface="宋体"/>
              </a:rPr>
              <a:t>: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不看书，不讨论，自主完成。    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字迹工整，卷面整洁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时间：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分钟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1880" y="45684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572"/>
                </a:solidFill>
                <a:latin typeface="Arial"/>
              </a:rPr>
              <a:t>答案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5680" y="1704600"/>
            <a:ext cx="1160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1.D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山重水复疑无路，柳暗花明又一村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箫鼓追随春社近，衣冠简朴古风存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81080" y="7621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莫笑农家腊酒浑，丰年留客足鸡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华文行楷"/>
              </a:rPr>
              <a:t>           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初看起来觉得平淡，就象“故人具鸡黍，邀我至田家”那样，仿佛是一则普通的记事，毫不费力。然而，诗人从这里的起句，写自己游村突然来到农家，主人盛情留客，渲染出农家丰收后的欢乐气氛，为下面出游写景抒情作了有力的铺垫。“腊酒”，指腊月（农历十二月）里自酿的米酒。这是稻谷丰收后出现的喜人景象。腊酒在开春后饮用，外表显得有点浑浊，但是它有着名酒般的醇美。何况农家主人又是那样热情待客，还备有丰盛的佳肴呢！豚，指小猪，这里“足鸡豚”是形容农家待客的菜肴极为丰盛。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文本框 84994"/>
          <p:cNvSpPr/>
          <p:nvPr/>
        </p:nvSpPr>
        <p:spPr>
          <a:xfrm>
            <a:off x="8832960" y="6093000"/>
            <a:ext cx="1008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华文新魏"/>
              </a:rPr>
              <a:t>上一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33920" y="685440"/>
            <a:ext cx="2135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7d7da9"/>
                </a:solidFill>
                <a:uFillTx/>
                <a:latin typeface="Arial"/>
                <a:ea typeface="方正舒体"/>
              </a:rPr>
              <a:t>山重水复疑无路，</a:t>
            </a:r>
            <a:br>
              <a:rPr sz="4800"/>
            </a:br>
            <a:r>
              <a:rPr b="1" lang="zh-CN" sz="4800" spc="-1" strike="noStrike" u="sng">
                <a:solidFill>
                  <a:srgbClr val="7d7da9"/>
                </a:solidFill>
                <a:uFillTx/>
                <a:latin typeface="Arial"/>
                <a:ea typeface="方正舒体"/>
              </a:rPr>
              <a:t>柳暗花明又一村。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825200" y="685440"/>
            <a:ext cx="625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在青翠的山峦见漫步，清碧的山泉在曲折的溪流中淙淙穿行，草木愈渐浓茂，蜿蜒的山径也愈渐依稀难认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正在迷茫之际突然看见前面花明柳暗，几家农舍，隐现于花木空疏之间，顿觉豁然开朗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6" name="图片 21509" descr="clip_image010"/>
          <p:cNvPicPr/>
          <p:nvPr/>
        </p:nvPicPr>
        <p:blipFill>
          <a:blip r:embed="rId1"/>
          <a:stretch/>
        </p:blipFill>
        <p:spPr>
          <a:xfrm>
            <a:off x="4151160" y="1197000"/>
            <a:ext cx="1657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828800" y="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山重水复疑无路，柳暗花明又一村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cc"/>
                </a:solidFill>
                <a:latin typeface="Arial"/>
                <a:ea typeface="华文行楷"/>
              </a:rPr>
              <a:t>   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是一联脍炙人口的名句。它的妙处，不仅在善于描写难状之景以及对仗的工巧，而是在于“等闲语言变瑰奇”，出语自然天成，又富于哲理，耐人咀嚼。把这种自然景象摄入诗篇里，在唐代诗人的笔下早就描绘过，如王维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蓝田山石门精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“遥爱云木秀，初疑路不同；安知清流转，忽与前山通。”到了宋代诗人手里，也有所描摹，如王安石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江上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“青山缭绕疑无路，忽见千帆隐映来”。时代接近于陆游的诗人还有强彦文，他的诗歌有唐人的风致，曾写过“远山初见疑无路，曲径徐行渐有村”的诗句。但在意境的开拓上，可以这样说，这些诗句要远逊于陆游。这联上句通过一个“疑”字，把徐行山村而周围山峦重迭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81921"/>
          <p:cNvSpPr/>
          <p:nvPr/>
        </p:nvSpPr>
        <p:spPr>
          <a:xfrm>
            <a:off x="1752480" y="127080"/>
            <a:ext cx="8460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流水萦绕的迷路的感觉，刻画得形神毕现；下句承上，把移步换形所见之繁花似锦的春日美景，描绘得宛然在目。这样使感觉的形象与视觉的形象有机结合在一起，构成一幅优美动人而又奇妙的画面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唐宋诗醇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评这二句说：“有如弹丸脱手，不独善写难状之景。”这个评价是有见地的。这一联不仅写得极其自然，而且用语浅近，含意丰富；仿佛信手拈来，然而出人意表。所以千百年来一直赢得人们的普遍喜爱，如今已成为广泛流传的成语。当人们吟诵这两句诗时，不单是欣赏这难以言状的美妙的山村自然风光，而是从中领悟到它所蕴含的哲理思想的启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只要人们正视现实，面对重重艰难险阻，不退缩，不畏惧，勇于开拓，发奋前进，那么，前方将是一个充满光明与希望的崭新境界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文本框 81922"/>
          <p:cNvSpPr/>
          <p:nvPr/>
        </p:nvSpPr>
        <p:spPr>
          <a:xfrm>
            <a:off x="8832960" y="6093000"/>
            <a:ext cx="1008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华文新魏"/>
              </a:rPr>
              <a:t>上一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23880" y="2491920"/>
            <a:ext cx="9144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近社日，村里忙着迎神赛会，村民们在迎神的箫鼓声中来来往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家虽衣冠简朴，但古老的乡俗却很盛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箫鼓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吹箫击鼓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风：古老的乡俗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矩形 23563"/>
          <p:cNvSpPr txBox="1"/>
          <p:nvPr/>
        </p:nvSpPr>
        <p:spPr>
          <a:xfrm>
            <a:off x="1774800" y="404640"/>
            <a:ext cx="424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箫鼓追随春社近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42" name="矩形 23564"/>
          <p:cNvSpPr txBox="1"/>
          <p:nvPr/>
        </p:nvSpPr>
        <p:spPr>
          <a:xfrm>
            <a:off x="6383160" y="404640"/>
            <a:ext cx="410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衣冠简朴古风存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98108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箫鼓追随春社近，衣冠简朴古风存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诗由写景转入抒情，从村外之景转写村内之情。“春社”，这是我国古代的一种习俗。南宋陈元靓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岁时广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谓“立春后五戊日为春社”。即立春第五个戊日为春社日。当这一天将来临时，村子里不断的吹箫打鼓声音，响彻云霄，洋溢着一片节日的欢快气氛。乡民们还要向土地神祭祀，以祈求农事的丰收。这个简朴的古代风俗，在当时江南的农村仍然很流行。诗篇不仅反映了农民们渴望丰年的心愿，也表达了诗人喜爱农村生活的真挚感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文本框 82946"/>
          <p:cNvSpPr/>
          <p:nvPr/>
        </p:nvSpPr>
        <p:spPr>
          <a:xfrm>
            <a:off x="8832960" y="6093000"/>
            <a:ext cx="1008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华文新魏"/>
              </a:rPr>
              <a:t>上一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梅花三弄 古筝版.mp3" descr=""/>
          <p:cNvPicPr/>
          <p:nvPr/>
        </p:nvPicPr>
        <p:blipFill>
          <a:blip r:embed="rId1"/>
          <a:stretch/>
        </p:blipFill>
        <p:spPr>
          <a:xfrm>
            <a:off x="926460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6" name="矩形 49156"/>
          <p:cNvSpPr/>
          <p:nvPr/>
        </p:nvSpPr>
        <p:spPr>
          <a:xfrm>
            <a:off x="47520" y="3068640"/>
            <a:ext cx="10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但愿从今以后，趁着月明之夜来闲游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楷体_GB2312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矩形 49157"/>
          <p:cNvSpPr/>
          <p:nvPr/>
        </p:nvSpPr>
        <p:spPr>
          <a:xfrm>
            <a:off x="3670200" y="3933720"/>
            <a:ext cx="56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能随时拄杖，轻扣柴扉，与老农亲切絮语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矩形 49159"/>
          <p:cNvSpPr/>
          <p:nvPr/>
        </p:nvSpPr>
        <p:spPr>
          <a:xfrm>
            <a:off x="3544920" y="148428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从今若许闲乘月，拄杖无时夜扣门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35626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81080" y="-3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今若许闲乘月，拄杖无时夜叩门。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这是全诗的总结，也是漫游山村心情的表述。游村的感受如何呢？山村的迷人景色、村俗的朴实淳美，这些都给诗人留下美好而难忘的印象。今后怎么样呢？诗篇以频来夜游之情收结，余韵不尽。如果说孟浩然诗的最后：“待到重阳日，还来就菊花”，表露得非常直率，那么，陆游诗的结尾用笔则比较婉转，诗人吐露的意念是，今后倘有机会乘月明之夜外出闲游的话，我拄着拐杖会随时前来敲门叙谈。这一归结，点明了游村的诗题，而“夜叩门”与首句“农家”遥相呼应，不仅画面完整，而且更耐人寻味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文本框 86018"/>
          <p:cNvSpPr/>
          <p:nvPr/>
        </p:nvSpPr>
        <p:spPr>
          <a:xfrm>
            <a:off x="8832960" y="6093000"/>
            <a:ext cx="1008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华文新魏"/>
              </a:rPr>
              <a:t>上一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99"/>
          <p:cNvSpPr/>
          <p:nvPr/>
        </p:nvSpPr>
        <p:spPr>
          <a:xfrm>
            <a:off x="1797120" y="355680"/>
            <a:ext cx="8597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【学习目标】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宋体"/>
              </a:rPr>
              <a:t>1.</a:t>
            </a:r>
            <a:r>
              <a:rPr b="0" lang="zh-CN" sz="4800" spc="-1" strike="noStrike">
                <a:solidFill>
                  <a:srgbClr val="0033cc"/>
                </a:solidFill>
                <a:latin typeface="宋体"/>
                <a:ea typeface="宋体"/>
              </a:rPr>
              <a:t>了解作者及相关文学常识，背诵并默写全诗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宋体"/>
              </a:rPr>
              <a:t>2.</a:t>
            </a:r>
            <a:r>
              <a:rPr b="0" lang="zh-CN" sz="4800" spc="-1" strike="noStrike">
                <a:solidFill>
                  <a:srgbClr val="0033cc"/>
                </a:solidFill>
                <a:latin typeface="宋体"/>
                <a:ea typeface="宋体"/>
              </a:rPr>
              <a:t>理解诗歌主题，体会诗歌的意境美，赏析诗中写景及富含哲理的诗句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宋体"/>
              </a:rPr>
              <a:t>3.</a:t>
            </a:r>
            <a:r>
              <a:rPr b="0" lang="zh-CN" sz="4800" spc="-1" strike="noStrike">
                <a:solidFill>
                  <a:srgbClr val="0033cc"/>
                </a:solidFill>
                <a:latin typeface="宋体"/>
                <a:ea typeface="宋体"/>
              </a:rPr>
              <a:t>培养热爱大自然的思想感情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内容占位符 102401" descr="clip_image00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0"/>
            <a:ext cx="9394920" cy="7262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63880" y="112536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首联渲染出丰收之年农村一片宁静，欢跃的情景．这两句是说农家酒味虽薄，而待客情意却十分深厚．“足”字表达了农家款客尽其所有的盛情；“莫笑”二字，道出了诗人对农村淳朴民风的赞赏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103425" descr="0001@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矩形 103426"/>
          <p:cNvSpPr/>
          <p:nvPr/>
        </p:nvSpPr>
        <p:spPr>
          <a:xfrm>
            <a:off x="2495520" y="1125360"/>
            <a:ext cx="67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颔联写山间水畔的景色，写景中富含哲理，千百年来广泛被人引用．这里描写的是诗人置身山阴道上，信步而行，疑若无路，忽而又开朗的情景．不仅反映了诗人对前途所抱的希望，也道出了世间事物消长变化的哲理，体现了宋诗特有的理趣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47880" y="1197000"/>
            <a:ext cx="8540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ff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楷体_GB2312"/>
              </a:rPr>
              <a:t>颈联展开了一幅春光明媚的山水图，描摹了南宋初年的农村风俗画卷．读者不难体味出诗人所要表达的热爱传统文化的深情，显示了他对吾土吾民的热爱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内容占位符 105473" descr="clip_image012"/>
          <p:cNvPicPr/>
          <p:nvPr/>
        </p:nvPicPr>
        <p:blipFill>
          <a:blip r:embed="rId1"/>
          <a:stretch/>
        </p:blipFill>
        <p:spPr>
          <a:xfrm>
            <a:off x="8616960" y="5661000"/>
            <a:ext cx="1511280" cy="8762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74440" y="1628280"/>
            <a:ext cx="82090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华文新魏"/>
              </a:rPr>
              <a:t>尾联写诗人的愿望．诗人盼望着以后能够有时间趁月夜出游，随时拄着手杖敲门拜访，恋恋不舍之情益于言表．一个热爱农村，与农民亲密无间的诗人形象跃然纸上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88065" descr="J0229389"/>
          <p:cNvPicPr/>
          <p:nvPr/>
        </p:nvPicPr>
        <p:blipFill>
          <a:blip r:embed="rId2"/>
          <a:stretch/>
        </p:blipFill>
        <p:spPr>
          <a:xfrm>
            <a:off x="4008600" y="44280"/>
            <a:ext cx="6659280" cy="681372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88066"/>
          <p:cNvSpPr/>
          <p:nvPr/>
        </p:nvSpPr>
        <p:spPr>
          <a:xfrm>
            <a:off x="5087880" y="1700280"/>
            <a:ext cx="446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Arial"/>
                <a:ea typeface="华文行楷"/>
              </a:rPr>
              <a:t>《</a:t>
            </a:r>
            <a:r>
              <a:rPr b="1" lang="zh-CN" sz="5000" spc="-1" strike="noStrike">
                <a:solidFill>
                  <a:srgbClr val="800080"/>
                </a:solidFill>
                <a:latin typeface="Arial"/>
                <a:ea typeface="华文行楷"/>
              </a:rPr>
              <a:t>游山西村</a:t>
            </a:r>
            <a:r>
              <a:rPr b="1" lang="en-US" sz="5000" spc="-1" strike="noStrike">
                <a:solidFill>
                  <a:srgbClr val="800080"/>
                </a:solidFill>
                <a:latin typeface="Arial"/>
                <a:ea typeface="华文行楷"/>
              </a:rPr>
              <a:t>》</a:t>
            </a:r>
            <a:r>
              <a:rPr b="1" lang="zh-CN" sz="5000" spc="-1" strike="noStrike">
                <a:solidFill>
                  <a:srgbClr val="800080"/>
                </a:solidFill>
                <a:latin typeface="Arial"/>
                <a:ea typeface="华文行楷"/>
              </a:rPr>
              <a:t>：书写了诗人陶醉在山野风光和农村的人情之美里的快乐之情。</a:t>
            </a:r>
            <a:endParaRPr b="0" lang="en-US" sz="5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0" name="图片 88067" descr="画画"/>
          <p:cNvPicPr/>
          <p:nvPr/>
        </p:nvPicPr>
        <p:blipFill>
          <a:blip r:embed="rId3"/>
          <a:stretch/>
        </p:blipFill>
        <p:spPr>
          <a:xfrm>
            <a:off x="1523880" y="3789360"/>
            <a:ext cx="2659320" cy="30686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88068" descr="铃铛"/>
          <p:cNvPicPr/>
          <p:nvPr/>
        </p:nvPicPr>
        <p:blipFill>
          <a:blip r:embed="rId4"/>
          <a:stretch/>
        </p:blipFill>
        <p:spPr>
          <a:xfrm>
            <a:off x="1523880" y="0"/>
            <a:ext cx="2484720" cy="2394000"/>
          </a:xfrm>
          <a:prstGeom prst="rect">
            <a:avLst/>
          </a:prstGeom>
          <a:ln w="0">
            <a:noFill/>
          </a:ln>
        </p:spPr>
      </p:pic>
      <p:sp>
        <p:nvSpPr>
          <p:cNvPr id="262" name="矩形 88069"/>
          <p:cNvSpPr txBox="1"/>
          <p:nvPr/>
        </p:nvSpPr>
        <p:spPr>
          <a:xfrm rot="5400000">
            <a:off x="1928520" y="1903320"/>
            <a:ext cx="2568600" cy="1092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中心思想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79873"/>
          <p:cNvSpPr/>
          <p:nvPr/>
        </p:nvSpPr>
        <p:spPr>
          <a:xfrm>
            <a:off x="1981080" y="251460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本诗写了诗人的所见、所闻、所感，展示了农村的人情美，风物美，民俗美，请从诗中找出这些句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文本框 79874"/>
          <p:cNvSpPr/>
          <p:nvPr/>
        </p:nvSpPr>
        <p:spPr>
          <a:xfrm>
            <a:off x="1919160" y="403200"/>
            <a:ext cx="64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全诗流露了诗人什么样的思想感情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文本框 79875"/>
          <p:cNvSpPr/>
          <p:nvPr/>
        </p:nvSpPr>
        <p:spPr>
          <a:xfrm>
            <a:off x="2101680" y="1066680"/>
            <a:ext cx="85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明确：诗歌写了诗人在山西村的所见、所闻、所感，展现了农村的人情美、风物美、民俗美，从而表达了诗人的陶醉、恋恋不舍之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文本框 79876"/>
          <p:cNvSpPr/>
          <p:nvPr/>
        </p:nvSpPr>
        <p:spPr>
          <a:xfrm>
            <a:off x="1992240" y="349740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体味、积累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游山西村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中哪两句流传最广？你是如何理解这两句诗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文本框 79877"/>
          <p:cNvSpPr/>
          <p:nvPr/>
        </p:nvSpPr>
        <p:spPr>
          <a:xfrm>
            <a:off x="2049480" y="4929120"/>
            <a:ext cx="861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明确：“山重水复疑无路，柳暗花明又一村。”诗句写的是山绕水绕、柳暗花明，一派花团锦簇的景象。还蕴含着生活的哲理，比喻困境中往往蕴含着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8" name="图片 79878" descr="GIF012"/>
          <p:cNvPicPr/>
          <p:nvPr/>
        </p:nvPicPr>
        <p:blipFill>
          <a:blip r:embed="rId1"/>
          <a:stretch/>
        </p:blipFill>
        <p:spPr>
          <a:xfrm>
            <a:off x="9524880" y="6324480"/>
            <a:ext cx="933480" cy="3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07521" descr="43ys"/>
          <p:cNvPicPr/>
          <p:nvPr/>
        </p:nvPicPr>
        <p:blipFill>
          <a:blip r:embed="rId1"/>
          <a:stretch/>
        </p:blipFill>
        <p:spPr>
          <a:xfrm>
            <a:off x="1523880" y="0"/>
            <a:ext cx="1043280" cy="680544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c0c0c0"/>
            </a:outerShdw>
          </a:effectLst>
        </p:spPr>
      </p:pic>
      <p:sp>
        <p:nvSpPr>
          <p:cNvPr id="270" name="矩形 107522"/>
          <p:cNvSpPr/>
          <p:nvPr/>
        </p:nvSpPr>
        <p:spPr>
          <a:xfrm>
            <a:off x="3000240" y="1773360"/>
            <a:ext cx="86868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隶书"/>
              </a:rPr>
              <a:t>莫笑农家腊酒浑，丰年留客足鸡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隶书"/>
              </a:rPr>
              <a:t>山重水复疑无路，柳暗花明又一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隶书"/>
              </a:rPr>
              <a:t>萧鼓追随春社近，衣冠简朴古风存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隶书"/>
              </a:rPr>
              <a:t>从今若许闲乘月，拄杖无时夜叩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矩形 107523"/>
          <p:cNvSpPr/>
          <p:nvPr/>
        </p:nvSpPr>
        <p:spPr>
          <a:xfrm>
            <a:off x="5014800" y="549360"/>
            <a:ext cx="43214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华文隶书"/>
              </a:rPr>
              <a:t>游山西村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华文隶书"/>
              </a:rPr>
              <a:t>陆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文本框 107524"/>
          <p:cNvSpPr/>
          <p:nvPr/>
        </p:nvSpPr>
        <p:spPr>
          <a:xfrm>
            <a:off x="2927520" y="234468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表现农家的淳朴好客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文本框 107525"/>
          <p:cNvSpPr/>
          <p:nvPr/>
        </p:nvSpPr>
        <p:spPr>
          <a:xfrm>
            <a:off x="2927520" y="3284640"/>
            <a:ext cx="75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蕴含生活哲理，比喻困境中往往蕴含着希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文本框 107526"/>
          <p:cNvSpPr/>
          <p:nvPr/>
        </p:nvSpPr>
        <p:spPr>
          <a:xfrm>
            <a:off x="2927520" y="4349880"/>
            <a:ext cx="75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写出山西村淳朴的风土人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文本框 107527"/>
          <p:cNvSpPr/>
          <p:nvPr/>
        </p:nvSpPr>
        <p:spPr>
          <a:xfrm>
            <a:off x="2927520" y="5357880"/>
            <a:ext cx="75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表达了作者留恋之情和对此行的由衷感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6" name="图片 107528" descr="gif09"/>
          <p:cNvPicPr/>
          <p:nvPr/>
        </p:nvPicPr>
        <p:blipFill>
          <a:blip r:embed="rId2"/>
          <a:stretch/>
        </p:blipFill>
        <p:spPr>
          <a:xfrm>
            <a:off x="2424240" y="2708280"/>
            <a:ext cx="792000" cy="7761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07529"/>
          <p:cNvSpPr/>
          <p:nvPr/>
        </p:nvSpPr>
        <p:spPr>
          <a:xfrm>
            <a:off x="3000240" y="2766960"/>
            <a:ext cx="78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  <a:ea typeface="华文隶书"/>
              </a:rPr>
              <a:t>山重水复疑无路，柳暗花明又一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文本框 107530"/>
          <p:cNvSpPr/>
          <p:nvPr/>
        </p:nvSpPr>
        <p:spPr>
          <a:xfrm>
            <a:off x="2927520" y="12654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中心：表达了作者对山村生活的喜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9" name="图片 107532" descr="图片2"/>
          <p:cNvPicPr/>
          <p:nvPr/>
        </p:nvPicPr>
        <p:blipFill>
          <a:blip r:embed="rId3"/>
          <a:stretch/>
        </p:blipFill>
        <p:spPr>
          <a:xfrm>
            <a:off x="9010800" y="0"/>
            <a:ext cx="16570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内容占位符 45065" descr="clip_image0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2063520" y="1483920"/>
            <a:ext cx="813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山西村，正植社日临近，农民们衣着简朴，吹箫击鼓，结队往来，热闹非凡．诗人陶醉在山野风光和农村的人情美里，对这次郊游发出了由衷的感叹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905120" y="114300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成语典故：柳暗花明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陆游是南宋著名的爱国诗人。他的诗抒发了抗金爱国的情怀，一度得到孝宗的赏识，所以入朝当了军器少监。但朝中的投降派百般排挤他，不断上书皇帝，诬陷他终日赏花吟诗，不务正业，皇帝偏听偏信，结果陆游被弃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　     陆游怀着满腔的愤怒，回到老家绍兴闲居。一天，陆游前往山西村拜访友人，友人及左邻右舍听说陆游来访，都热情地接待他，家家户户摆酒设宴相迎。那淳朴的民风使陆游十分感动，他诗兴大发，写下诗篇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游山西村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诗中有这样两句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　山重水复疑无路，柳暗花明又一村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　     诗句既描绘了大自然的景象，又表达了诗人对未来寄予希望的心境。“柳暗花明”后用来比喻环境的突然转变；也比喻在困难中遇到转机，在错综复杂的情况下找到了解决问题的方法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矩形 87042"/>
          <p:cNvSpPr txBox="1"/>
          <p:nvPr/>
        </p:nvSpPr>
        <p:spPr>
          <a:xfrm>
            <a:off x="1992240" y="235080"/>
            <a:ext cx="3095640" cy="89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知识链接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95233"/>
          <p:cNvSpPr txBox="1"/>
          <p:nvPr/>
        </p:nvSpPr>
        <p:spPr>
          <a:xfrm>
            <a:off x="2927520" y="260280"/>
            <a:ext cx="61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们的发现：陶渊明与陆游心态比较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85" name="文本框 95234"/>
          <p:cNvSpPr/>
          <p:nvPr/>
        </p:nvSpPr>
        <p:spPr>
          <a:xfrm>
            <a:off x="2567160" y="1125360"/>
            <a:ext cx="72738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行楷"/>
              </a:rPr>
              <a:t>      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陶渊明与陆游当时写下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《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归园田居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》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《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游山西村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》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这两首诗时都以弃官。但从陆游的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《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十一月四日风雨大作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》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可看出，陆游仍然希望为国效力；而淘渊明则钟意于田园生活，钟意于与世无争、自给自足的日子。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文本框 95235"/>
          <p:cNvSpPr/>
          <p:nvPr/>
        </p:nvSpPr>
        <p:spPr>
          <a:xfrm>
            <a:off x="4583160" y="4292640"/>
            <a:ext cx="5761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99"/>
          <p:cNvSpPr/>
          <p:nvPr/>
        </p:nvSpPr>
        <p:spPr>
          <a:xfrm>
            <a:off x="228600" y="2235240"/>
            <a:ext cx="1173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1" lang="zh-CN" sz="5400" spc="-1" strike="noStrike">
                <a:solidFill>
                  <a:srgbClr val="0033cc"/>
                </a:solidFill>
                <a:latin typeface="宋体"/>
                <a:ea typeface="宋体"/>
              </a:rPr>
              <a:t>请同学们朗读全诗，借助注释和工具书了解作者及相关文学常识，背诵全诗并默写，</a:t>
            </a:r>
            <a:r>
              <a:rPr b="1" lang="en-US" sz="5400" spc="-1" strike="noStrike">
                <a:solidFill>
                  <a:srgbClr val="0033cc"/>
                </a:solidFill>
                <a:latin typeface="宋体"/>
              </a:rPr>
              <a:t>6</a:t>
            </a:r>
            <a:r>
              <a:rPr b="1" lang="zh-CN" sz="5400" spc="-1" strike="noStrike">
                <a:solidFill>
                  <a:srgbClr val="0033cc"/>
                </a:solidFill>
                <a:latin typeface="宋体"/>
                <a:ea typeface="宋体"/>
              </a:rPr>
              <a:t>分钟后展示自学成果！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文本框 1"/>
          <p:cNvSpPr/>
          <p:nvPr/>
        </p:nvSpPr>
        <p:spPr>
          <a:xfrm>
            <a:off x="595440" y="1041480"/>
            <a:ext cx="42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自学指导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16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行楷"/>
              </a:rPr>
              <a:t>文言知识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77480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词多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衣沾不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足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惜（值得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丰年留客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足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豚（丰足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古今异义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近：古义“土地神”，今义一种集体组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词类活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拄杖无时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扣门：名词作状语，在夜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9" name="内容占位符 97283" descr="clip_image001"/>
          <p:cNvPicPr/>
          <p:nvPr/>
        </p:nvPicPr>
        <p:blipFill>
          <a:blip r:embed="rId1"/>
          <a:stretch/>
        </p:blipFill>
        <p:spPr>
          <a:xfrm>
            <a:off x="7967520" y="1341360"/>
            <a:ext cx="2376720" cy="2808360"/>
          </a:xfrm>
          <a:prstGeom prst="rect">
            <a:avLst/>
          </a:prstGeom>
          <a:ln w="0">
            <a:noFill/>
          </a:ln>
        </p:spPr>
      </p:pic>
      <p:sp>
        <p:nvSpPr>
          <p:cNvPr id="290" name="矩形 97284"/>
          <p:cNvSpPr txBox="1"/>
          <p:nvPr/>
        </p:nvSpPr>
        <p:spPr>
          <a:xfrm>
            <a:off x="2208240" y="1484280"/>
            <a:ext cx="7920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足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91" name="矩形 97285"/>
          <p:cNvSpPr txBox="1"/>
          <p:nvPr/>
        </p:nvSpPr>
        <p:spPr>
          <a:xfrm>
            <a:off x="2208240" y="3716280"/>
            <a:ext cx="609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社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92" name="矩形 97286"/>
          <p:cNvSpPr txBox="1"/>
          <p:nvPr/>
        </p:nvSpPr>
        <p:spPr>
          <a:xfrm>
            <a:off x="2279520" y="5300640"/>
            <a:ext cx="56196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夜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99331"/>
          <p:cNvSpPr/>
          <p:nvPr/>
        </p:nvSpPr>
        <p:spPr>
          <a:xfrm>
            <a:off x="1847880" y="1341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你在学习、生活中有否遇到过“山重水复疑无路，柳暗花明又一村”的情况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谈谈你的感受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文本框 108546"/>
          <p:cNvSpPr/>
          <p:nvPr/>
        </p:nvSpPr>
        <p:spPr>
          <a:xfrm>
            <a:off x="8045280" y="1484280"/>
            <a:ext cx="1521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00cc"/>
                </a:solidFill>
                <a:latin typeface="Arial"/>
                <a:ea typeface="汉仪太极体简"/>
              </a:rPr>
              <a:t>再见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5" name="图片 108547" descr="图片3"/>
          <p:cNvPicPr/>
          <p:nvPr/>
        </p:nvPicPr>
        <p:blipFill>
          <a:blip r:embed="rId1"/>
          <a:stretch/>
        </p:blipFill>
        <p:spPr>
          <a:xfrm>
            <a:off x="1523880" y="0"/>
            <a:ext cx="47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77825"/>
          <p:cNvSpPr txBox="1"/>
          <p:nvPr/>
        </p:nvSpPr>
        <p:spPr>
          <a:xfrm>
            <a:off x="8767800" y="426960"/>
            <a:ext cx="26654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ff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陆游简介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ff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文本框 77826"/>
          <p:cNvSpPr/>
          <p:nvPr/>
        </p:nvSpPr>
        <p:spPr>
          <a:xfrm>
            <a:off x="352440" y="439560"/>
            <a:ext cx="8288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陆游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1125-121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      ）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伟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诗人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。字（      ），号（      ），山阴（现浙江省绍兴市）人。幼年时正当金兵向南入侵，中年时期，参加军队生活，这些对他的创作有很大的影响。由于他坚决主张抗战，政治上经常受到投降集团的压制，但报国信念始终没有衰退。他一生留下九千多首诗，大都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抒发政治抱负，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洋溢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爱国热情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，充满收复失地的信心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风格豪迈是他诗歌的特色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。著有《剑南诗稿》《渭南文集》《南唐书》《老学庵笔记》，本诗选自《               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2" name="图片 77827" descr="mrwx04"/>
          <p:cNvPicPr/>
          <p:nvPr/>
        </p:nvPicPr>
        <p:blipFill>
          <a:blip r:embed="rId1"/>
          <a:stretch/>
        </p:blipFill>
        <p:spPr>
          <a:xfrm>
            <a:off x="8670960" y="1217520"/>
            <a:ext cx="2857320" cy="374508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77828"/>
          <p:cNvSpPr/>
          <p:nvPr/>
        </p:nvSpPr>
        <p:spPr>
          <a:xfrm>
            <a:off x="7977240" y="5049720"/>
            <a:ext cx="1600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著作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文本框 77829"/>
          <p:cNvSpPr/>
          <p:nvPr/>
        </p:nvSpPr>
        <p:spPr>
          <a:xfrm>
            <a:off x="8994600" y="511020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剑南诗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沈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文本框 1"/>
          <p:cNvSpPr/>
          <p:nvPr/>
        </p:nvSpPr>
        <p:spPr>
          <a:xfrm>
            <a:off x="5095800" y="50004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南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文本框 3"/>
          <p:cNvSpPr/>
          <p:nvPr/>
        </p:nvSpPr>
        <p:spPr>
          <a:xfrm>
            <a:off x="922320" y="873000"/>
            <a:ext cx="15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务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文本框 4"/>
          <p:cNvSpPr/>
          <p:nvPr/>
        </p:nvSpPr>
        <p:spPr>
          <a:xfrm>
            <a:off x="3500280" y="843120"/>
            <a:ext cx="139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放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文本框 7"/>
          <p:cNvSpPr/>
          <p:nvPr/>
        </p:nvSpPr>
        <p:spPr>
          <a:xfrm>
            <a:off x="3268800" y="4378320"/>
            <a:ext cx="30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剑南诗稿校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内容占位符 4113" descr="C:/Users/dell/Desktop/《游山西村》.ppt.教案.同步练习.mp3/http:/it0.baidu.com/it/u=523218791,1042877657&amp;gp=1.jpg"/>
          <p:cNvPicPr/>
          <p:nvPr/>
        </p:nvPicPr>
        <p:blipFill>
          <a:blip r:embed="rId1"/>
          <a:stretch/>
        </p:blipFill>
        <p:spPr>
          <a:xfrm>
            <a:off x="7824960" y="2565360"/>
            <a:ext cx="2484360" cy="3384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91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 u="sng">
                <a:solidFill>
                  <a:srgbClr val="00ccff"/>
                </a:solidFill>
                <a:uFillTx/>
                <a:latin typeface="Arial"/>
                <a:ea typeface="华文彩云"/>
              </a:rPr>
              <a:t>作者轶事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0600" y="1143000"/>
            <a:ext cx="11809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起文人，就使人想起肩不能挑、手不能提的文弱书生。然而陆游既是文人之佼佼者，又有非凡的武艺。为了实现收复失地的心愿，他曾经千里投师学习剑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岁时，他应邀到了抗金前线南郑。有一天，他带兵到山中围猎，天色渐暗，大家准备回营了，。猛然间袭来一阵腥风，传来一声怒吼，随着扑出一只吊睛白额猛虎。大家见了无不惊慌失色，纷纷逃避；只有陆游毫不惧怕，挺身仗剑，向虎刺了去，于是人虎之间展开了一场殊死搏斗。最后，陆游一剑刺中了老虎的咽喉。陆兄如此骁勇，怎不令人咋舌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01377" descr="图片16"/>
          <p:cNvPicPr/>
          <p:nvPr/>
        </p:nvPicPr>
        <p:blipFill>
          <a:blip r:embed="rId1"/>
          <a:stretch/>
        </p:blipFill>
        <p:spPr>
          <a:xfrm>
            <a:off x="41400" y="0"/>
            <a:ext cx="12141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101378"/>
          <p:cNvSpPr/>
          <p:nvPr/>
        </p:nvSpPr>
        <p:spPr>
          <a:xfrm>
            <a:off x="4378320" y="230040"/>
            <a:ext cx="6946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写作背景  宋孝宗乾道二年（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1166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），陆游由于支持张俊北伐失败被罢官还乡。诗人心中愤愤不平。对照诈伪的官场，与家乡纯朴的生活自然会产生无限的欣慰之情。这首诗作于次年春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当时陆游正罢官闲居在家。居山阴镜湖之三山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解题      游：出游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山西村：三山乡西边的村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矩形 101380"/>
          <p:cNvSpPr txBox="1"/>
          <p:nvPr/>
        </p:nvSpPr>
        <p:spPr>
          <a:xfrm rot="5400000">
            <a:off x="780840" y="1847520"/>
            <a:ext cx="2955960" cy="968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写作背景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5" name="矩形 101381"/>
          <p:cNvSpPr/>
          <p:nvPr/>
        </p:nvSpPr>
        <p:spPr>
          <a:xfrm>
            <a:off x="155412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7" name="Picture 4" descr="图片1"/>
          <p:cNvPicPr/>
          <p:nvPr/>
        </p:nvPicPr>
        <p:blipFill>
          <a:blip r:embed="rId1"/>
          <a:stretch/>
        </p:blipFill>
        <p:spPr>
          <a:xfrm>
            <a:off x="-19080" y="0"/>
            <a:ext cx="12209400" cy="7101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9" descr="2004123193250924"/>
          <p:cNvPicPr/>
          <p:nvPr/>
        </p:nvPicPr>
        <p:blipFill>
          <a:blip r:embed="rId2"/>
          <a:stretch/>
        </p:blipFill>
        <p:spPr>
          <a:xfrm>
            <a:off x="1523880" y="2276640"/>
            <a:ext cx="540000" cy="4762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0" descr="2004123193250924"/>
          <p:cNvPicPr/>
          <p:nvPr/>
        </p:nvPicPr>
        <p:blipFill>
          <a:blip r:embed="rId3"/>
          <a:stretch/>
        </p:blipFill>
        <p:spPr>
          <a:xfrm>
            <a:off x="10377360" y="2276640"/>
            <a:ext cx="579600" cy="476244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4"/>
          <p:cNvSpPr/>
          <p:nvPr/>
        </p:nvSpPr>
        <p:spPr>
          <a:xfrm>
            <a:off x="2063880" y="274680"/>
            <a:ext cx="4762440" cy="1143000"/>
          </a:xfrm>
          <a:prstGeom prst="flowChartPunched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66"/>
                </a:solidFill>
                <a:uFillTx/>
                <a:latin typeface="Arial"/>
                <a:ea typeface="宋体"/>
              </a:rPr>
              <a:t>预习检测：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1</a:t>
            </a:r>
            <a:r>
              <a:rPr b="1" lang="zh-CN" sz="4000" spc="-1" strike="noStrike" u="sng">
                <a:solidFill>
                  <a:srgbClr val="000066"/>
                </a:solidFill>
                <a:uFillTx/>
                <a:latin typeface="Arial"/>
                <a:ea typeface="宋体"/>
              </a:rPr>
              <a:t>分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文本框 1"/>
          <p:cNvSpPr/>
          <p:nvPr/>
        </p:nvSpPr>
        <p:spPr>
          <a:xfrm>
            <a:off x="2347920" y="1585800"/>
            <a:ext cx="8029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要求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不交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不看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规范书写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独立完成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完成后左手示意并认真检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99"/>
          <p:cNvSpPr/>
          <p:nvPr/>
        </p:nvSpPr>
        <p:spPr>
          <a:xfrm>
            <a:off x="42840" y="166680"/>
            <a:ext cx="1213344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4.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字音字形及释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腊（  ）酒浑（    ）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足鸡豚（    ）</a:t>
            </a:r>
            <a:r>
              <a:rPr b="0" lang="zh-CN" sz="48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：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                                         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Yí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）无路  </a:t>
            </a: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xiāo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）鼓  春</a:t>
            </a: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shè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 ）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zhǔ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）杖  </a:t>
            </a: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kòu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）门  </a:t>
            </a: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jiǎn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）朴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文本框 1"/>
          <p:cNvSpPr/>
          <p:nvPr/>
        </p:nvSpPr>
        <p:spPr>
          <a:xfrm>
            <a:off x="1844640" y="820800"/>
            <a:ext cx="11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là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文本框 2"/>
          <p:cNvSpPr/>
          <p:nvPr/>
        </p:nvSpPr>
        <p:spPr>
          <a:xfrm>
            <a:off x="4784760" y="620640"/>
            <a:ext cx="24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hún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文本框 3"/>
          <p:cNvSpPr/>
          <p:nvPr/>
        </p:nvSpPr>
        <p:spPr>
          <a:xfrm>
            <a:off x="4168800" y="1835280"/>
            <a:ext cx="2503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文本框 4"/>
          <p:cNvSpPr/>
          <p:nvPr/>
        </p:nvSpPr>
        <p:spPr>
          <a:xfrm>
            <a:off x="2421000" y="2065320"/>
            <a:ext cx="25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tún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文本框 5"/>
          <p:cNvSpPr/>
          <p:nvPr/>
        </p:nvSpPr>
        <p:spPr>
          <a:xfrm>
            <a:off x="1325520" y="345456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疑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文本框 6"/>
          <p:cNvSpPr/>
          <p:nvPr/>
        </p:nvSpPr>
        <p:spPr>
          <a:xfrm>
            <a:off x="6168960" y="3454560"/>
            <a:ext cx="227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文本框 7"/>
          <p:cNvSpPr/>
          <p:nvPr/>
        </p:nvSpPr>
        <p:spPr>
          <a:xfrm>
            <a:off x="10809360" y="3454560"/>
            <a:ext cx="17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社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文本框 9"/>
          <p:cNvSpPr/>
          <p:nvPr/>
        </p:nvSpPr>
        <p:spPr>
          <a:xfrm>
            <a:off x="1636560" y="4243320"/>
            <a:ext cx="131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拄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文本框 10"/>
          <p:cNvSpPr/>
          <p:nvPr/>
        </p:nvSpPr>
        <p:spPr>
          <a:xfrm>
            <a:off x="5711760" y="4243320"/>
            <a:ext cx="154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叩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文本框 11"/>
          <p:cNvSpPr/>
          <p:nvPr/>
        </p:nvSpPr>
        <p:spPr>
          <a:xfrm>
            <a:off x="9807480" y="4335480"/>
            <a:ext cx="215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简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文本框 12"/>
          <p:cNvSpPr/>
          <p:nvPr/>
        </p:nvSpPr>
        <p:spPr>
          <a:xfrm>
            <a:off x="1936800" y="1542960"/>
            <a:ext cx="86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腊月所酿的酒，称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腊酒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。浑，浑浊。酒以清为贵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文本框 13"/>
          <p:cNvSpPr/>
          <p:nvPr/>
        </p:nvSpPr>
        <p:spPr>
          <a:xfrm>
            <a:off x="1954080" y="2962440"/>
            <a:ext cx="81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指菜肴丰富。豚，小猪，这里指猪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8:21:16Z</dcterms:created>
  <dc:creator>haier</dc:creator>
  <dc:description/>
  <dc:language>en-US</dc:language>
  <cp:lastModifiedBy>当归</cp:lastModifiedBy>
  <dcterms:modified xsi:type="dcterms:W3CDTF">2018-04-28T10:51:23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11</vt:lpwstr>
  </property>
</Properties>
</file>